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custShowLst>
    <p:custShow name="Atributiile primarului" id="0">
      <p:sldLst>
        <p:sld r:id="rId4"/>
        <p:sld r:id="rId5"/>
        <p:sld r:id="rId9"/>
        <p:sld r:id="rId10"/>
        <p:sld r:id="rId11"/>
        <p:sld r:id="rId17"/>
        <p:sld r:id="rId18"/>
        <p:sld r:id="rId21"/>
        <p:sld r:id="rId22"/>
        <p:sld r:id="rId23"/>
      </p:sldLst>
    </p:custShow>
    <p:custShow name="Atributiile consiliului local" id="1">
      <p:sldLst>
        <p:sld r:id="rId5"/>
        <p:sld r:id="rId6"/>
        <p:sld r:id="rId7"/>
        <p:sld r:id="rId8"/>
        <p:sld r:id="rId15"/>
        <p:sld r:id="rId16"/>
        <p:sld r:id="rId19"/>
        <p:sld r:id="rId20"/>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E268E-020B-434B-86C1-47958E148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DA947-8C3E-42A4-8117-FA9FF9BCA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DE6B5-2101-4AA4-BE03-5BEAB5743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458778-CFC9-4866-88C6-8ACAC4EA1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7EA4AE-6770-4495-B2A6-8743A68AB3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5FA1F2-8F6B-48DE-84FB-E4BB37F2C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19B3C8-C8E4-41DB-AA26-B7166734F6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4BE24C-F981-41D4-8C30-DE91ACD451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AF3AEE-0DB7-45C0-A060-1D579196DA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06B23E-AC1C-492C-A5A2-880D53EAE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743F9-EEE0-450F-9D56-E3C1132ED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AB5A6-31A8-4E96-891F-2F6C9541A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30140-71E3-4FA3-9179-AC0F6B22B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C46FC-D8C3-4F92-82B2-F8EFD1DD7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694356-EFCF-452D-9C35-DA28B19D6E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A69804-2FBB-4BD6-8296-951A0044A8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922432-293A-447E-AC44-FBC1DBE3AD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1BD82-F8B2-4D4A-8352-1A4E860F2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0FA58-BC66-497B-AAF1-684F647D7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5B40D-9196-4707-91AB-00F950DF6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ABF6F-7123-403E-A2DF-DCC58A159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9668A-49B7-4663-A0F6-A21F2F36C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0CA82-DD1D-4EBF-AC17-708A6E329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BFABE-C1E8-4831-88BD-19303DD451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AF8D4-2779-4500-A2B7-4DB7F2E7FFDA}"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1F0EC-31A9-4128-917D-59F3D8147A1A}"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685440"/>
            <a:ext cx="8569080" cy="2127240"/>
          </a:xfrm>
          <a:prstGeom prst="rect">
            <a:avLst/>
          </a:prstGeom>
          <a:noFill/>
          <a:ln w="0">
            <a:noFill/>
          </a:ln>
          <a:effectLst>
            <a:outerShdw dist="36147" dir="2700000" blurRad="0" rotWithShape="0">
              <a:srgbClr val="000099">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ff"/>
                </a:solidFill>
                <a:latin typeface="Garamond"/>
              </a:rPr>
              <a:t>OBLIGAŢIIL</a:t>
            </a:r>
            <a:r>
              <a:rPr b="1" lang="en-US" sz="2400" spc="-1" strike="noStrike">
                <a:solidFill>
                  <a:srgbClr val="0000ff"/>
                </a:solidFill>
                <a:latin typeface="Garamond"/>
              </a:rPr>
              <a:t>E</a:t>
            </a:r>
            <a:r>
              <a:rPr b="1" lang="ro-RO" sz="2400" spc="-1" strike="noStrike">
                <a:solidFill>
                  <a:srgbClr val="0000ff"/>
                </a:solidFill>
                <a:latin typeface="Garamond"/>
              </a:rPr>
              <a:t> PRIMARULUI ŞI ALE CONSILIULUI LOCAL ÎN DOMENIUL SITUAŢIILOR DE URGENŢĂ</a:t>
            </a:r>
            <a:endParaRPr b="0" lang="en-US" sz="2400" spc="-1" strike="noStrike">
              <a:solidFill>
                <a:srgbClr val="999900"/>
              </a:solidFill>
              <a:latin typeface="Garamond"/>
            </a:endParaRPr>
          </a:p>
        </p:txBody>
      </p:sp>
      <p:sp>
        <p:nvSpPr>
          <p:cNvPr id="91" name="PlaceHolder 2"/>
          <p:cNvSpPr>
            <a:spLocks noGrp="1"/>
          </p:cNvSpPr>
          <p:nvPr>
            <p:ph type="subTitle"/>
          </p:nvPr>
        </p:nvSpPr>
        <p:spPr>
          <a:xfrm>
            <a:off x="755640" y="3270240"/>
            <a:ext cx="7561440" cy="22096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Verdana"/>
              </a:rPr>
              <a:t>Reglementări cadru priv</a:t>
            </a:r>
            <a:r>
              <a:rPr b="1" i="1" lang="en-US" sz="1600" spc="-1" strike="noStrike">
                <a:solidFill>
                  <a:srgbClr val="000000"/>
                </a:solidFill>
                <a:latin typeface="Verdana"/>
              </a:rPr>
              <a:t>i</a:t>
            </a:r>
            <a:r>
              <a:rPr b="1" i="1" lang="ro-RO" sz="1600" spc="-1" strike="noStrike">
                <a:solidFill>
                  <a:srgbClr val="000000"/>
                </a:solidFill>
                <a:latin typeface="Verdana"/>
              </a:rPr>
              <a:t>nd atribuţiile autorităţilor administraţiei publice  locale în domeniul situaţiilor de urgenţă</a:t>
            </a:r>
            <a:endParaRPr b="0" lang="en-US" sz="1600" spc="-1" strike="noStrike">
              <a:solidFill>
                <a:srgbClr val="000000"/>
              </a:solidFill>
              <a:latin typeface="Verdana"/>
            </a:endParaRPr>
          </a:p>
        </p:txBody>
      </p:sp>
      <p:sp>
        <p:nvSpPr>
          <p:cNvPr id="92" name=""/>
          <p:cNvSpPr/>
          <p:nvPr/>
        </p:nvSpPr>
        <p:spPr>
          <a:xfrm>
            <a:off x="0" y="17136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ISTERUL INTERNELOR ŞI REFORMEI ADMINISTRATIVE</a:t>
            </a:r>
            <a:endParaRPr b="0" lang="en-US" sz="1400" spc="-1" strike="noStrike">
              <a:solidFill>
                <a:srgbClr val="000000"/>
              </a:solidFill>
              <a:latin typeface="Arial"/>
            </a:endParaRPr>
          </a:p>
        </p:txBody>
      </p:sp>
      <p:sp>
        <p:nvSpPr>
          <p:cNvPr id="93" name=""/>
          <p:cNvSpPr/>
          <p:nvPr/>
        </p:nvSpPr>
        <p:spPr>
          <a:xfrm>
            <a:off x="34920" y="38736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Inspectoratul pentru Situaţii de Urgenţă “Maior Constantin Ene” al judeţului Bacău</a:t>
            </a:r>
            <a:endParaRPr b="0" lang="en-US" sz="1400" spc="-1" strike="noStrike">
              <a:solidFill>
                <a:srgbClr val="000000"/>
              </a:solidFill>
              <a:latin typeface="Arial"/>
            </a:endParaRPr>
          </a:p>
        </p:txBody>
      </p:sp>
      <p:sp>
        <p:nvSpPr>
          <p:cNvPr id="94" name=""/>
          <p:cNvSpPr/>
          <p:nvPr/>
        </p:nvSpPr>
        <p:spPr>
          <a:xfrm>
            <a:off x="0" y="625140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man Old Style"/>
              </a:rPr>
              <a:t>Bacău, 2007</a:t>
            </a:r>
            <a:endParaRPr b="0" lang="en-US" sz="16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ribuţiile autorităţilor administraţiei publice locale</a:t>
            </a:r>
            <a:endParaRPr b="0" lang="en-US" sz="2800" spc="-1" strike="noStrike">
              <a:solidFill>
                <a:srgbClr val="999900"/>
              </a:solidFill>
              <a:latin typeface="Garamond"/>
            </a:endParaRPr>
          </a:p>
        </p:txBody>
      </p:sp>
      <p:sp>
        <p:nvSpPr>
          <p:cNvPr id="115" name="PlaceHolder 2"/>
          <p:cNvSpPr>
            <a:spLocks noGrp="1"/>
          </p:cNvSpPr>
          <p:nvPr>
            <p:ph/>
          </p:nvPr>
        </p:nvSpPr>
        <p:spPr>
          <a:xfrm>
            <a:off x="457200" y="1989000"/>
            <a:ext cx="8229600" cy="38880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Art. 6</a:t>
            </a:r>
            <a:endParaRPr b="0" lang="en-US" sz="20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sunt obligate sa asigure capacitati de interventie specializate, corespunzator tipurilor de riscuri la care sunt expuse teritoriul si populatia, in timpi de raspuns optimi, indiferent de locul si momentul in care se produce situatia de urgenta.</a:t>
            </a:r>
            <a:endParaRPr b="0" lang="en-US" sz="1600" spc="-1" strike="noStrike">
              <a:solidFill>
                <a:srgbClr val="000000"/>
              </a:solidFill>
              <a:latin typeface="Verdana"/>
            </a:endParaRPr>
          </a:p>
          <a:p>
            <a:pPr marL="34308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organizatorice si de pregatire pe linia protectiei civile au caracter permanent si se intensifica la instituirea starilor exceptionale si la declararea mobilizarii sau pe timp de razboi.</a:t>
            </a:r>
            <a:endParaRPr b="0" lang="en-US" sz="1600" spc="-1" strike="noStrike">
              <a:solidFill>
                <a:srgbClr val="000000"/>
              </a:solidFill>
              <a:latin typeface="Verdana"/>
            </a:endParaRPr>
          </a:p>
          <a:p>
            <a:pPr marL="34308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de protectie civila se aplica gradual, in functie de amploarea si intensitatea situatiei de urgenta.</a:t>
            </a:r>
            <a:endParaRPr b="0" lang="en-US" sz="16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ribuţiile autorităţilor administraţiei publice locale</a:t>
            </a:r>
            <a:endParaRPr b="0" lang="en-US" sz="2800" spc="-1" strike="noStrike">
              <a:solidFill>
                <a:srgbClr val="999900"/>
              </a:solidFill>
              <a:latin typeface="Garamond"/>
            </a:endParaRPr>
          </a:p>
        </p:txBody>
      </p:sp>
      <p:sp>
        <p:nvSpPr>
          <p:cNvPr id="117" name="PlaceHolder 2"/>
          <p:cNvSpPr>
            <a:spLocks noGrp="1"/>
          </p:cNvSpPr>
          <p:nvPr>
            <p:ph/>
          </p:nvPr>
        </p:nvSpPr>
        <p:spPr>
          <a:xfrm>
            <a:off x="456840" y="2062080"/>
            <a:ext cx="8435880" cy="38880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Art. 21</a:t>
            </a:r>
            <a:endParaRPr b="0" lang="en-US" sz="20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asigura stabilirea si integrarea masurilor de protectie civila in planurile si programele de dezvoltare economico-sociala ce se elaboreaza la nivel national, judetean si local si urmaresc realizarea acestor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si actiunile de prevenire din planurile de protectie civila se planifica si se executa prioritar de catre toate autoritatile administratiei publice centrale si locale, potrivit competentelor acestor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poarta intreaga raspundere pentru asigurarea conditiilor de supravietuire a populatiei afectate de urmarile situatiilor de urgent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sigurarea conditiilor prevazute la alin. (3) se realizeaza prin serviciile de urgenta, serviciile publice de gospodarie comunala, institutii si agenti economici, inclusiv prin utilizarea, in conditiile legii, a bunurilor din rezervele de stat si a serviciilor si bunurilor puse la dispozitie de organizatii neguvernamentale romane sau de comunitatile locale si populatia din zonele neafectate, de state si organizatii straine ori cu caracter international.</a:t>
            </a:r>
            <a:endParaRPr b="0" lang="en-US" sz="1600" spc="-1" strike="noStrike">
              <a:solidFill>
                <a:srgbClr val="000000"/>
              </a:solidFill>
              <a:latin typeface="Verdan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19"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ribuţiile consiliilor judeţene şi consiliilor locale ale municipiilor, oraşelor şi comunelor</a:t>
            </a:r>
            <a:r>
              <a:rPr b="0" lang="en-US" sz="2600" spc="-1" strike="noStrike">
                <a:solidFill>
                  <a:srgbClr val="000000"/>
                </a:solidFill>
                <a:latin typeface="Verdana"/>
              </a:rPr>
              <a:t> </a:t>
            </a:r>
            <a:endParaRPr b="0" lang="en-US" sz="2600" spc="-1" strike="noStrike">
              <a:solidFill>
                <a:srgbClr val="000000"/>
              </a:solidFill>
              <a:latin typeface="Verdana"/>
            </a:endParaRPr>
          </a:p>
        </p:txBody>
      </p:sp>
      <p:sp>
        <p:nvSpPr>
          <p:cNvPr id="120"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rticipă, potrivit legii, la asigurarea finanţării măsurilor şi a acţiunilor de protecţie civilă, precum şi a serviciilor de urgenţă şi a structurilor care au atribuţii legale în acest domeniu.</a:t>
            </a:r>
            <a:endParaRPr b="0" lang="en-US" sz="1400" spc="-1" strike="noStrike">
              <a:solidFill>
                <a:srgbClr val="000000"/>
              </a:solidFill>
              <a:latin typeface="Arial"/>
            </a:endParaRPr>
          </a:p>
        </p:txBody>
      </p:sp>
    </p:spTree>
  </p:cSld>
  <p:transition>
    <p:dissolv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mph" presetID="3" presetSubtype="10" repeatCount="indefinite">
                                  <p:stCondLst>
                                    <p:cond delay="0"/>
                                  </p:stCondLst>
                                  <p:iterate type="lt">
                                    <p:tmAbs val="25"/>
                                  </p:iterate>
                                  <p:childTnLst>
                                    <p:animClr clrSpc="rgb">
                                      <p:cBhvr>
                                        <p:cTn id="24" dur="500" fill="hold"/>
                                        <p:tgtEl>
                                          <p:spTgt spid="120"/>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consiliilor judeţene şi consiliilor locale ale municipiilor, oraşelor şi comunelor</a:t>
            </a:r>
            <a:endParaRPr b="0" lang="en-US" sz="3200" spc="-1" strike="noStrike">
              <a:solidFill>
                <a:srgbClr val="999900"/>
              </a:solidFill>
              <a:latin typeface="Garamond"/>
            </a:endParaRPr>
          </a:p>
        </p:txBody>
      </p:sp>
      <p:sp>
        <p:nvSpPr>
          <p:cNvPr id="122" name="PlaceHolder 2"/>
          <p:cNvSpPr>
            <a:spLocks noGrp="1"/>
          </p:cNvSpPr>
          <p:nvPr>
            <p:ph/>
          </p:nvPr>
        </p:nvSpPr>
        <p:spPr>
          <a:xfrm>
            <a:off x="456840" y="1850760"/>
            <a:ext cx="8435880" cy="4530600"/>
          </a:xfrm>
          <a:prstGeom prst="rect">
            <a:avLst/>
          </a:prstGeom>
          <a:noFill/>
          <a:ln w="0">
            <a:noFill/>
          </a:ln>
        </p:spPr>
        <p:txBody>
          <a:bodyPr lIns="90000" rIns="90000" tIns="46800" bIns="46800" anchor="t">
            <a:normAutofit/>
          </a:bodyPr>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organizarea protectiei civile la nivelul unitatii administrativ-teritoriale, analizeaza anual si ori de cate ori este nevoie activitatea desfasurata si adopta masuri pentru imbunatatirea acestei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planurile anuale si de perspectiva pentru asigurarea resurselor umane, materiale si financiare destinate prevenirii si gestionarii situatiilor de urgent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articipa, potrivit legii, la asigurarea finantarii masurilor si a actiunilor de protectie civila, precum si a serviciilor de urgenta si a structurilor care au atributii legale in acest domeniu;</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stabilesc, in conditiile legii, taxe speciale pe linia protectiei civile;</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iinteaza, in conditiile legii si cu avizul Inspectoratului General pentru Situatii de Urgenta, centre de formare si evaluare a personalului din serviciile voluntare de urgent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estioneaza, depoziteaza, intretin si asigura conservarea aparaturii si a materialelor de protectie civila prin serviciile specializate din subordine;</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spatiile necesare functionarii inspectoratelor pentru situatii de urgenta corespunzatoare, paza si securitatea acestora si a centrelor operationale, precum si spatiile pentru depozitarea materialelor de interventie.</a:t>
            </a:r>
            <a:endParaRPr b="0" lang="en-US" sz="1400" spc="-1" strike="noStrike">
              <a:solidFill>
                <a:srgbClr val="000000"/>
              </a:solidFill>
              <a:latin typeface="Verdan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24"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25"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rticipă, potrivit legii, la asigurarea finanţării măsurilor şi a acţiunilor de protecţie civilă, precum şi a serviciilor de urgenţă şi a structurilor care au atribuţii legale în acest domeniu.</a:t>
            </a:r>
            <a:endParaRPr b="0" lang="en-US" sz="1400" spc="-1" strike="noStrike">
              <a:solidFill>
                <a:srgbClr val="000000"/>
              </a:solidFill>
              <a:latin typeface="Arial"/>
            </a:endParaRPr>
          </a:p>
        </p:txBody>
      </p:sp>
    </p:spTree>
  </p:cSld>
  <p:transition>
    <p:dissolv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mph" presetID="3" presetSubtype="10" repeatCount="indefinite">
                                  <p:stCondLst>
                                    <p:cond delay="0"/>
                                  </p:stCondLst>
                                  <p:iterate type="lt">
                                    <p:tmAbs val="25"/>
                                  </p:iterate>
                                  <p:childTnLst>
                                    <p:animClr clrSpc="rgb">
                                      <p:cBhvr>
                                        <p:cTn id="30" dur="500" fill="hold"/>
                                        <p:tgtEl>
                                          <p:spTgt spid="125"/>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ilor</a:t>
            </a:r>
            <a:endParaRPr b="0" lang="en-US" sz="3200" spc="-1" strike="noStrike">
              <a:solidFill>
                <a:srgbClr val="999900"/>
              </a:solidFill>
              <a:latin typeface="Garamond"/>
            </a:endParaRPr>
          </a:p>
        </p:txBody>
      </p:sp>
      <p:sp>
        <p:nvSpPr>
          <p:cNvPr id="127" name="PlaceHolder 2"/>
          <p:cNvSpPr>
            <a:spLocks noGrp="1"/>
          </p:cNvSpPr>
          <p:nvPr>
            <p:ph/>
          </p:nvPr>
        </p:nvSpPr>
        <p:spPr>
          <a:xfrm>
            <a:off x="456840" y="1557000"/>
            <a:ext cx="8435880" cy="4530600"/>
          </a:xfrm>
          <a:prstGeom prst="rect">
            <a:avLst/>
          </a:prstGeom>
          <a:noFill/>
          <a:ln w="0">
            <a:noFill/>
          </a:ln>
        </p:spPr>
        <p:txBody>
          <a:bodyPr lIns="90000" rIns="90000" tIns="46800" bIns="46800" anchor="t">
            <a:normAutofit fontScale="94000"/>
          </a:bodyPr>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 propune consiliului local structura organizatorica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b) aduce la indeplinire hotararile consiliului local in domeniul protectiei civil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 aproba planurile operative, de pregatire si planificare a exercitiilor de specialita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d) propune fondurile necesare realizarii masurilor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 conduce exercitiile, aplicatiile si activitatile de pregatire privind protectia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f) coordoneaza activitatea serviciilor de urgenta voluntar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 aproba planurile de cooperare cu localitatile invecinate si organismele neguvernamental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 dispune masuri si controleaza modul de intretinere a spatiilor de adapostire colective de catre administratorul acestor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 urmareste realizarea, intretinerea si functionarea legaturilor si mijloacelor de instiintare si alarmare in situatii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j) raspunde de alarmarea, protectia si pregatirea populatiei pentru situatiile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k) solicita asistenta tehnica si sprijin pentru gestionarea situatiilor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 exercita controlul aplicarii masurilor de protectie civila in plan local;</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m) asigura evaluarea si centralizarea solicitarilor de ajutoare si despagubiri in situatii de protectie civila, precum si distribuirea celor primi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 coordoneaza nemijlocit evacuarea populatiei din zonele afectate de situatiile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o) stabileste masurile necesare pentru asigurarea hranirii, a cazarii si a alimentarii cu energie si apa a populatiei evacua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 dispune masuri pentru asigurarea ordinii publice in zona sinistrat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q) coopereaza cu primarii localitatilor sau ai sectoarelor limitrofe, dupa caz, in probleme de interes comun;</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r) gestioneaza, depoziteaza, intretine si conserva tehnica, aparatura si materialele de protectie civila, prin serviciile de specialitate subordonate.</a:t>
            </a:r>
            <a:endParaRPr b="0" lang="en-US" sz="1400" spc="-1" strike="noStrike">
              <a:solidFill>
                <a:srgbClr val="000000"/>
              </a:solidFill>
              <a:latin typeface="Verdan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307 din 12 iulie 2006              privind apărarea împotriva incendiilor</a:t>
            </a:r>
            <a:r>
              <a:rPr b="0" lang="en-US" sz="5200" spc="-1" strike="noStrike">
                <a:solidFill>
                  <a:srgbClr val="999900"/>
                </a:solidFill>
                <a:latin typeface="Garamond"/>
              </a:rPr>
              <a:t> </a:t>
            </a:r>
            <a:endParaRPr b="0" lang="en-US" sz="5200" spc="-1" strike="noStrike">
              <a:solidFill>
                <a:srgbClr val="999900"/>
              </a:solidFill>
              <a:latin typeface="Garamond"/>
            </a:endParaRPr>
          </a:p>
        </p:txBody>
      </p:sp>
      <p:sp>
        <p:nvSpPr>
          <p:cNvPr id="129"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consiliului local</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0" name=""/>
          <p:cNvSpPr/>
          <p:nvPr/>
        </p:nvSpPr>
        <p:spPr>
          <a:xfrm>
            <a:off x="539640" y="550404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vede distinct, potrivit legii, din resursele financiare ale bugetului local, sumele necesare în vederea organizării, înzestrării, funcţionării şi îndeplinirii atribuţiilor legale de către serviciile de urgenţă voluntare înfiinţate şi exercită controlul folosirii acestora.</a:t>
            </a:r>
            <a:endParaRPr b="0" lang="en-US" sz="1400" spc="-1" strike="noStrike">
              <a:solidFill>
                <a:srgbClr val="000000"/>
              </a:solidFill>
              <a:latin typeface="Arial"/>
            </a:endParaRPr>
          </a:p>
        </p:txBody>
      </p:sp>
    </p:spTree>
  </p:cSld>
  <p:transition>
    <p:dissolv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mph" presetID="3" presetSubtype="10" repeatCount="indefinite">
                                  <p:stCondLst>
                                    <p:cond delay="0"/>
                                  </p:stCondLst>
                                  <p:iterate type="lt">
                                    <p:tmAbs val="200"/>
                                  </p:iterate>
                                  <p:childTnLst>
                                    <p:animClr clrSpc="rgb">
                                      <p:cBhvr>
                                        <p:cTn id="36" dur="2000" fill="hold"/>
                                        <p:tgtEl>
                                          <p:spTgt spid="130"/>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consiliului local</a:t>
            </a:r>
            <a:endParaRPr b="0" lang="en-US" sz="3200" spc="-1" strike="noStrike">
              <a:solidFill>
                <a:srgbClr val="999900"/>
              </a:solidFill>
              <a:latin typeface="Garamond"/>
            </a:endParaRPr>
          </a:p>
        </p:txBody>
      </p:sp>
      <p:sp>
        <p:nvSpPr>
          <p:cNvPr id="132"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0000"/>
          </a:bodyPr>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obă planul de analiză şi acoperire a riscurilor, pentru unitatea administrativ-teritorială pe care o reprezintă, stabileşte resursele necesare pentru aplicarea acestuia şi îl transmite inspectoratului în raza căruia funcţionează;</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ite hotărâri, în condiţiile legii, cu privire la organizarea activităţii de apărare împotriva incendiilor în unitatea administrativ-teritorială pe care o reprezintă;</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ituie reguli şi măsuri specifice corelate cu nivelul şi natura riscurilor local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înfiinţează, la propunerea primarului, cu avizul inspectoratului, serviciul voluntar de urgenţă şi aprobă regulamentul de organizare şi funcţionare al acestui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emnează şeful serviciului voluntar de urgenţă, la propunerea primarului, cu avizul inspectoratului;</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ede distinct, potrivit legii, din resursele financiare ale bugetului local, sumele necesare în vederea organizării, înzestrării, funcţionării şi îndeplinirii atribuţiilor legale de către serviciile de urgenţă voluntare înfiinţate şi exercită controlul folosirii acestor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prinde anual în bugetul propriu sumele necesare pentru asigurarea bunurilor din dotarea serviciilor de urgenţă voluntare, pentru cazurile de avarie, distrugere sau pentru alte evenimente, precum şi pentru asigurarea de persoane şi răspundere civilă a personalului cu atribuţii pe linie de intervenţie, pentru cazurile de invaliditate sau de deces, produse prin accidente, catastrofe ori alte asemenea evenimente intervenite în timpul şi din cauza îndeplinirii atribuţiilor specific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includerea, în planurile de organizare, de dezvoltare urbanistică şi de amenajare a teritoriului, a căilor de acces pentru intervenţii, a lucrărilor pentru realizarea sistemelor de anunţare, alarmare, precum şi de alimentare cu apă în caz de incendiu;</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izează, semestrial şi ori de câte ori este nevoie, capacitatea de apărare împotriva incendiilor a unităţii administrativ-teritoriale pe care o reprezintă şi informează inspectoratul cu privire la măsurile stabilite pentru optimizarea acestei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imobile şi spaţii amenajate corespunzător pentru funcţionarea serviciului de urgenţă voluntar, precum şi mijloacele de comunicaţii necesar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îndeplineşte orice alte atribuţii prevăzute de lege pentru apărarea împotriva incendiilor.</a:t>
            </a:r>
            <a:endParaRPr b="0" lang="en-US" sz="1400" spc="-1" strike="noStrike">
              <a:solidFill>
                <a:srgbClr val="000000"/>
              </a:solidFill>
              <a:latin typeface="Verdan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307 din 12 iulie 2006              privind apărarea împotriva incendiilor</a:t>
            </a:r>
            <a:r>
              <a:rPr b="0" lang="en-US" sz="5200" spc="-1" strike="noStrike">
                <a:solidFill>
                  <a:srgbClr val="999900"/>
                </a:solidFill>
                <a:latin typeface="Garamond"/>
              </a:rPr>
              <a:t> </a:t>
            </a:r>
            <a:endParaRPr b="0" lang="en-US" sz="5200" spc="-1" strike="noStrike">
              <a:solidFill>
                <a:srgbClr val="999900"/>
              </a:solidFill>
              <a:latin typeface="Garamond"/>
            </a:endParaRPr>
          </a:p>
        </p:txBody>
      </p:sp>
      <p:sp>
        <p:nvSpPr>
          <p:cNvPr id="134"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5" name=""/>
          <p:cNvSpPr/>
          <p:nvPr/>
        </p:nvSpPr>
        <p:spPr>
          <a:xfrm>
            <a:off x="539640" y="550404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ordonează organizarea permanentă a intervenţiei în caz de incendiu la nivelul unităţii administrativ-teritoriale, asigură participarea la intervenţie a serviciului voluntar de urgenţă cu mijloacele din dotare şi conducerea intervenţiei, până la stingerea incendiului ori până la sosirea forţelor inspectoratului.</a:t>
            </a:r>
            <a:endParaRPr b="0" lang="en-US" sz="1400" spc="-1" strike="noStrike">
              <a:solidFill>
                <a:srgbClr val="000000"/>
              </a:solidFill>
              <a:latin typeface="Arial"/>
            </a:endParaRPr>
          </a:p>
        </p:txBody>
      </p:sp>
    </p:spTree>
  </p:cSld>
  <p:transition>
    <p:dissolv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mph" presetID="3" presetSubtype="10" repeatCount="indefinite">
                                  <p:stCondLst>
                                    <p:cond delay="0"/>
                                  </p:stCondLst>
                                  <p:iterate type="lt">
                                    <p:tmAbs val="25"/>
                                  </p:iterate>
                                  <p:childTnLst>
                                    <p:animClr clrSpc="rgb">
                                      <p:cBhvr>
                                        <p:cTn id="42" dur="500" fill="hold"/>
                                        <p:tgtEl>
                                          <p:spTgt spid="135"/>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ului</a:t>
            </a:r>
            <a:endParaRPr b="0" lang="en-US" sz="3200" spc="-1" strike="noStrike">
              <a:solidFill>
                <a:srgbClr val="999900"/>
              </a:solidFill>
              <a:latin typeface="Garamond"/>
            </a:endParaRPr>
          </a:p>
        </p:txBody>
      </p:sp>
      <p:sp>
        <p:nvSpPr>
          <p:cNvPr id="137"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elaborarea planului de analiză şi acoperire a riscurilor şi aplicarea acestuia;</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respectarea criteriilor de performanţă pentru constituirea serviciului de urgenţă voluntar şi elaborarea regulamentului de organizare şi funcţionare al acestuia;</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rdonează organizarea permanentă a intervenţiei în caz de incendiu la nivelul unităţii administrativ-teritoriale, asigură participarea la intervenţie a serviciului voluntar de urgenţă cu mijloacele din dotare şi conducerea intervenţiei, până la stingerea incendiului ori până la sosirea forţelor inspectoratului;</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controlul respectării măsurilor de apărare împotriva incendiilor pe timpul adunărilor sau al manifestărilor public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controlul respectării măsurilor de apărare împotriva incendiilor la construcţiile şi instalaţiile tehnologice aparţinând domeniului public şi privat al unităţii administrativ-teritoriale, precum şi la instituţiile public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une verificarea îndeplinirii măsurilor stabilite prin avizele, autorizaţiile şi acordurile pe care le emit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realizarea şi menţinerea în stare de funcţionare a căilor de acces, a sistemelor de anunţare, alarmare, precum şi de alimentare cu apă în caz de incendiu;</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ează şi execută, prin serviciul de urgenţă voluntar, controlul respectării regulilor de apărare împotriva incendiilor la gospodăriile cetăţeneşti; informează populaţia cu privire la modul de comportare şi de intervenţie în caz de incendiu;</a:t>
            </a:r>
            <a:endParaRPr b="0" lang="en-US" sz="1400" spc="-1" strike="noStrike">
              <a:solidFill>
                <a:srgbClr val="000000"/>
              </a:solidFill>
              <a:latin typeface="Verdan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a:effectLst>
            <a:outerShdw dist="36147" dir="2700000" blurRad="0" rotWithShape="0">
              <a:srgbClr val="6666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aramond"/>
              </a:rPr>
              <a:t>Acte normative</a:t>
            </a:r>
            <a:endParaRPr b="0" lang="en-US" sz="4400" spc="-1" strike="noStrike">
              <a:solidFill>
                <a:srgbClr val="999900"/>
              </a:solidFill>
              <a:latin typeface="Garamond"/>
            </a:endParaRPr>
          </a:p>
        </p:txBody>
      </p:sp>
      <p:sp>
        <p:nvSpPr>
          <p:cNvPr id="96" name="PlaceHolder 2"/>
          <p:cNvSpPr>
            <a:spLocks noGrp="1"/>
          </p:cNvSpPr>
          <p:nvPr>
            <p:ph/>
          </p:nvPr>
        </p:nvSpPr>
        <p:spPr>
          <a:xfrm>
            <a:off x="457200" y="2103480"/>
            <a:ext cx="8229600" cy="398952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215 din 23 aprilie 2001 </a:t>
            </a:r>
            <a:r>
              <a:rPr b="0" i="1" lang="ro-RO" sz="2400" spc="-1" strike="noStrike">
                <a:solidFill>
                  <a:srgbClr val="000000"/>
                </a:solidFill>
                <a:latin typeface="Verdana"/>
              </a:rPr>
              <a:t>a administraţiei publice local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481 din 8 noiembrie 2004, </a:t>
            </a:r>
            <a:r>
              <a:rPr b="0" i="1" lang="ro-RO" sz="2400" spc="-1" strike="noStrike">
                <a:solidFill>
                  <a:srgbClr val="000000"/>
                </a:solidFill>
                <a:latin typeface="Verdana"/>
              </a:rPr>
              <a:t>privind protecţia civilă</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307 din 12 iulie 2006 </a:t>
            </a:r>
            <a:r>
              <a:rPr b="0" i="1" lang="ro-RO" sz="2400" spc="-1" strike="noStrike">
                <a:solidFill>
                  <a:srgbClr val="000000"/>
                </a:solidFill>
                <a:latin typeface="Verdana"/>
              </a:rPr>
              <a:t>privind apărarea împotriva incendiilor</a:t>
            </a:r>
            <a:r>
              <a:rPr b="0" lang="ro-RO" sz="2400" spc="-1" strike="noStrike">
                <a:solidFill>
                  <a:srgbClr val="000000"/>
                </a:solidFill>
                <a:latin typeface="Verdana"/>
              </a:rPr>
              <a:t> </a:t>
            </a:r>
            <a:endParaRPr b="0" lang="en-US" sz="2400" spc="-1" strike="noStrike">
              <a:solidFill>
                <a:srgbClr val="000000"/>
              </a:solidFill>
              <a:latin typeface="Verdan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ului</a:t>
            </a:r>
            <a:endParaRPr b="0" lang="en-US" sz="3200" spc="-1" strike="noStrike">
              <a:solidFill>
                <a:srgbClr val="999900"/>
              </a:solidFill>
              <a:latin typeface="Garamond"/>
            </a:endParaRPr>
          </a:p>
        </p:txBody>
      </p:sp>
      <p:sp>
        <p:nvSpPr>
          <p:cNvPr id="139"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fontScale="94000"/>
          </a:bodyPr>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încadrarea serviciului de urgenţă voluntar cu personal atestat în condiţiile legii, precum şi pregătirea profesională şi antrenarea acestuia;</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condiţiile pentru participarea la concursuri a serviciilor de urgenţă voluntare şi a cercurilor de elevi Prietenii pompierilor;</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dotarea serviciilor de urgenţă voluntare, potrivit normelor, cu mijloace tehnice pentru apărare împotriva incendiilor şi echipamente de protecţie specifice, carburanţi, lubrifianţi şi alte mijloace necesare susţinerii operaţiunilor de intervenţie, inclusiv hrana şi antidotul pentru participanţii la intervenţiile de lungă durată;</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ormează de îndată, prin orice mijloc, inspectoratul despre izbucnirea şi stingerea, cu forţe şi mijloace proprii, a oricărui incendiu pe raza unităţii administrativ-teritoriale, iar în termen de 3 zile lucrătoare completează şi trimite acestuia raportul de intervenţie;</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ă anual dotarea cu mijloacele tehnice de apărare împotriva incendiilor şi asigură completarea acesteia, conform normelor în vigoare;</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omunică de îndată inspectoratului scoaterea şi repunerea din/în funcţiune a oricărei autospeciale de intervenţie, precum şi, în scris, dotarea cu autospeciale de intervenţie noi;</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prin mijloacele avute la dispoziţie, desfăşurarea activităţilor de informare şi educaţie antiincendiu a populaţiei;</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ă şi soluţionează petiţiile cetăţenilor în problema apărării împotriva incendiilor;</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îndeplineşte orice alte obligaţii prevăzute de lege pentru apărarea împotriva incendiilor a comunităţii locale.</a:t>
            </a:r>
            <a:endParaRPr b="0" lang="en-US" sz="1400" spc="-1" strike="noStrike">
              <a:solidFill>
                <a:srgbClr val="000000"/>
              </a:solidFill>
              <a:latin typeface="Verdan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215 din 23 aprilie 2001 a administraţiei publice locale</a:t>
            </a:r>
            <a:endParaRPr b="0" lang="en-US" sz="3200" spc="-1" strike="noStrike">
              <a:solidFill>
                <a:srgbClr val="999900"/>
              </a:solidFill>
              <a:latin typeface="Garamond"/>
            </a:endParaRPr>
          </a:p>
        </p:txBody>
      </p:sp>
      <p:sp>
        <p:nvSpPr>
          <p:cNvPr id="98" name="PlaceHolder 2"/>
          <p:cNvSpPr>
            <a:spLocks noGrp="1"/>
          </p:cNvSpPr>
          <p:nvPr>
            <p:ph type="subTitle"/>
          </p:nvPr>
        </p:nvSpPr>
        <p:spPr>
          <a:xfrm>
            <a:off x="1371600" y="429264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consiliului local</a:t>
            </a:r>
            <a:endParaRPr b="0" lang="en-US" sz="3000" spc="-1" strike="noStrike">
              <a:solidFill>
                <a:srgbClr val="000000"/>
              </a:solidFill>
              <a:latin typeface="Verdana"/>
            </a:endParaRPr>
          </a:p>
        </p:txBody>
      </p:sp>
      <p:sp>
        <p:nvSpPr>
          <p:cNvPr id="99" name=""/>
          <p:cNvSpPr/>
          <p:nvPr/>
        </p:nvSpPr>
        <p:spPr>
          <a:xfrm>
            <a:off x="539640" y="514368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nsiliul local are iniţiativă şi hotărăşte, în condiţiile legii, în toate problemele de interes local, cu excepţia celor care sunt date prin lege în competenţa altor autorităţi publice, locale sau centrale. </a:t>
            </a:r>
            <a:endParaRPr b="0" lang="en-US" sz="14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3" presetSubtype="10" repeatCount="indefinite">
                                  <p:stCondLst>
                                    <p:cond delay="0"/>
                                  </p:stCondLst>
                                  <p:iterate type="lt">
                                    <p:tmAbs val="15"/>
                                  </p:iterate>
                                  <p:childTnLst>
                                    <p:animClr clrSpc="rgb">
                                      <p:cBhvr>
                                        <p:cTn id="6" dur="500" fill="hold"/>
                                        <p:tgtEl>
                                          <p:spTgt spid="99"/>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consiliului local</a:t>
            </a:r>
            <a:endParaRPr b="0" lang="en-US" sz="2400" spc="-1" strike="noStrike">
              <a:solidFill>
                <a:srgbClr val="999900"/>
              </a:solidFill>
              <a:latin typeface="Garamond"/>
            </a:endParaRPr>
          </a:p>
        </p:txBody>
      </p:sp>
      <p:sp>
        <p:nvSpPr>
          <p:cNvPr id="101"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vizeaza sau aproba, dupa caz, studii, prognoze si programe de dezvoltare economico-sociala, de organizare si amenajare a teritoriului, documentatii de amenajare a teritoriului si urbanism, inclusiv participarea la programe de dezvoltare judeteana, regionala, zonala si de cooperare transfrontaliera, in conditiile legii;</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bugetul local, imprumuturile, virarile de credite si modul de utilizare a rezervei bugetare; aproba contul de incheiere a exercitiului bugetar; stabileste impozite si taxe locale, precum si taxe speciale, in conditiile legii;</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la propunerea primarului, in conditiile legii, organigrama, statul de functii, numarul de personal si regulamentul de organizare si functionare a aparatului propriu de specialitate, ale institutiilor si serviciilor publice, precum si ale regiilor autonome de interes local;</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iinteaza institutii publice, societati comerciale si servicii publice de interes local; urmareste, controleaza si analizeaza activitatea acestora; instituie, cu respectarea criteriilor generale stabilite prin lege, norme de organizare si functionare pentru institutiile si serviciile publice de interes local; numeste si elibereaza din functie, in conditiile legii, conducatorii serviciilor publice de interes local, precum si pe cei ai institutiilor publice din subordinea sa; aplica sanctiuni disciplinare, in conditiile legii, persoanelor pe care le-a numit;</a:t>
            </a:r>
            <a:endParaRPr b="0" lang="en-US" sz="1400" spc="-1" strike="noStrike">
              <a:solidFill>
                <a:srgbClr val="000000"/>
              </a:solidFill>
              <a:latin typeface="Verdan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consiliului local</a:t>
            </a:r>
            <a:endParaRPr b="0" lang="en-US" sz="2400" spc="-1" strike="noStrike">
              <a:solidFill>
                <a:srgbClr val="999900"/>
              </a:solidFill>
              <a:latin typeface="Garamond"/>
            </a:endParaRPr>
          </a:p>
        </p:txBody>
      </p:sp>
      <p:sp>
        <p:nvSpPr>
          <p:cNvPr id="103"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fontScale="96000"/>
          </a:bodyPr>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a si aproba, in conditiile legii, documentatiile de amenajare a teritoriului si urbanism ale localitatilor, stabilind mijloacele materiale si financiare necesare in vederea realizarii acestora; aproba alocarea de fonduri din bugetul local pentru actiuni de aparare impotriva inundatiilor, incendiilor, dezastrelor si fenomenelor meteorologice periculoase;</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potrivit competentelor sale, conditiile materiale si financiare necesare pentru buna functionare a institutiilor si serviciilor publice de educatie, sanatate, cultura, tineret si sport, apararea ordinii publice, apararea impotriva incendiilor si protectia civila, de sub autoritatea sa; urmareste si controleaza activitatea acestora;</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otaraste cu privire la asigurarea ordinii publice; analizeaza activitatea gardienilor publici, politiei, jandarmeriei, pompierilor si a formatiunilor de protectie civila, in conditiile legii, si propune masuri de imbunatatire a activitatii acestora;</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ctioneaza pentru protectia si refacerea mediului inconjurator, in scopul cresterii calitatii vietii; contribuie la protectia, conservarea, restaurarea si punerea in valoare a monumentelor istorice si de arhitectura, a parcurilor si rezervatiilor naturale, in conditiile legii;</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otaraste, in conditiile legii, cooperarea sau asocierea cu persoane juridice romane sau straine, cu organizatii neguvernamentale si cu alti parteneri sociali, in vederea finantarii si realizarii in comun a unor actiuni, lucrari, servicii sau proiecte de interes public local; hotaraste infratirea comunei sau orasului cu unitati administrativ-teritoriale similare din alte tari;</a:t>
            </a:r>
            <a:endParaRPr b="0" lang="en-US" sz="1400" spc="-1" strike="noStrike">
              <a:solidFill>
                <a:srgbClr val="000000"/>
              </a:solidFill>
              <a:latin typeface="Verdan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215 din 23 aprilie 2001 a administraţiei publice locale</a:t>
            </a:r>
            <a:endParaRPr b="0" lang="en-US" sz="3200" spc="-1" strike="noStrike">
              <a:solidFill>
                <a:srgbClr val="999900"/>
              </a:solidFill>
              <a:latin typeface="Garamond"/>
            </a:endParaRPr>
          </a:p>
        </p:txBody>
      </p:sp>
      <p:sp>
        <p:nvSpPr>
          <p:cNvPr id="105" name="PlaceHolder 2"/>
          <p:cNvSpPr>
            <a:spLocks noGrp="1"/>
          </p:cNvSpPr>
          <p:nvPr>
            <p:ph type="subTitle"/>
          </p:nvPr>
        </p:nvSpPr>
        <p:spPr>
          <a:xfrm>
            <a:off x="1371600" y="429264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endParaRPr b="0" lang="en-US" sz="3000" spc="-1" strike="noStrike">
              <a:solidFill>
                <a:srgbClr val="000000"/>
              </a:solidFill>
              <a:latin typeface="Verdana"/>
            </a:endParaRPr>
          </a:p>
        </p:txBody>
      </p:sp>
      <p:sp>
        <p:nvSpPr>
          <p:cNvPr id="106" name=""/>
          <p:cNvSpPr/>
          <p:nvPr/>
        </p:nvSpPr>
        <p:spPr>
          <a:xfrm>
            <a:off x="539640" y="514368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imarul dispune măsurile necesare şi acordă sprijin pentru aplicarea ordinelor şi instrucţiunilor cu caracter normativ ale miniştrilor şi ale celorlalţi conducători ai autorităţilor administraţiei publice centrale, precum şi a hotărârilor consiliului judeţean. </a:t>
            </a:r>
            <a:endParaRPr b="0" lang="en-US" sz="1400" spc="-1" strike="noStrike">
              <a:solidFill>
                <a:srgbClr val="000000"/>
              </a:solidFill>
              <a:latin typeface="Arial"/>
            </a:endParaRPr>
          </a:p>
        </p:txBody>
      </p:sp>
    </p:spTree>
  </p:cSld>
  <p:transition>
    <p:dissolv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mph" presetID="3" presetSubtype="2" repeatCount="indefinite">
                                  <p:stCondLst>
                                    <p:cond delay="0"/>
                                  </p:stCondLst>
                                  <p:iterate type="lt">
                                    <p:tmAbs val="25"/>
                                  </p:iterate>
                                  <p:childTnLst>
                                    <p:animClr clrSpc="rgb">
                                      <p:cBhvr>
                                        <p:cTn id="12" dur="500" fill="hold"/>
                                        <p:tgtEl>
                                          <p:spTgt spid="106"/>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primarului</a:t>
            </a:r>
            <a:endParaRPr b="0" lang="en-US" sz="2400" spc="-1" strike="noStrike">
              <a:solidFill>
                <a:srgbClr val="999900"/>
              </a:solidFill>
              <a:latin typeface="Garamond"/>
            </a:endParaRPr>
          </a:p>
        </p:txBody>
      </p:sp>
      <p:sp>
        <p:nvSpPr>
          <p:cNvPr id="108"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0000"/>
          </a:bodyPr>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respectarea drepturilor si libertatilor fundamentale ale cetatenilor, a prevederilor Constitutiei, precum si punerea in aplicare a legilor, a decretelor Presedintelui Romaniei, a hotararilor si ordonantelor Guvernului;</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aducerea la indeplinire a hotararilor consiliului local.</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a masuri pentru prevenirea si limitarea urmarilor calamitatilor, catastrofelor, incendiilor, epidemiilor sau epizootiilor, impreuna cu organele specializate ale statului. In acest scop poate mobiliza populatia, agentii economici si institutiile publice din comuna sau din oras, acestea fiind obligate sa execute masurile stabilite in planurile de protectie si interventie elaborate pe tipuri de dezastr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ordinea publica si linistea locuitorilor, prin intermediul politiei, jandarmeriei, gardienilor publici, pompierilor si unitatilor de protectie civila;</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onduce serviciile publice locale; </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mite avizele, acordurile si autorizatiile date in competenta sa prin leg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ropune consiliului local spre aprobare, in conditiile legii, organigrama, statul de functii, numarul de personal si regulamentul de organizare si functionare a aparatului propriu de specialitat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umeste si elibereaza din functie, in conditiile legii, personalul din aparatul propriu de specialitate al autoritatilor administratiei publice local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a masuri pentru controlul depozitarii deseurilor menajere, industriale sau de orice fel, pentru asigurarea igienizarii malurilor cursurilor de apa din raza comunei sau a orasului, precum si pentru decolmatarea vailor locale si a podetelor pentru asigurarea scurgerii apelor mari.</a:t>
            </a:r>
            <a:endParaRPr b="0" lang="en-US" sz="1400" spc="-1" strike="noStrike">
              <a:solidFill>
                <a:srgbClr val="000000"/>
              </a:solidFill>
              <a:latin typeface="Verdan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primarului</a:t>
            </a:r>
            <a:endParaRPr b="0" lang="en-US" sz="2400" spc="-1" strike="noStrike">
              <a:solidFill>
                <a:srgbClr val="999900"/>
              </a:solidFill>
              <a:latin typeface="Garamond"/>
            </a:endParaRPr>
          </a:p>
        </p:txBody>
      </p:sp>
      <p:sp>
        <p:nvSpPr>
          <p:cNvPr id="110" name="PlaceHolder 2"/>
          <p:cNvSpPr>
            <a:spLocks noGrp="1"/>
          </p:cNvSpPr>
          <p:nvPr>
            <p:ph/>
          </p:nvPr>
        </p:nvSpPr>
        <p:spPr>
          <a:xfrm>
            <a:off x="456840" y="2176560"/>
            <a:ext cx="8435880" cy="3844800"/>
          </a:xfrm>
          <a:prstGeom prst="rect">
            <a:avLst/>
          </a:prstGeom>
          <a:noFill/>
          <a:ln w="0">
            <a:noFill/>
          </a:ln>
        </p:spPr>
        <p:txBody>
          <a:bodyPr lIns="90000" rIns="90000" tIns="46800" bIns="46800" anchor="t">
            <a:normAutofit/>
          </a:bodyPr>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In exercitarea atributiilor de autoritate tutelara si de ofiter de stare civila, a sarcinilor ce ii revin din actele normative privitoare la recensamant, la organizarea si desfasurarea alegerilor, </a:t>
            </a:r>
            <a:r>
              <a:rPr b="1" i="1" lang="ro-RO" sz="1600" spc="-1" strike="noStrike">
                <a:solidFill>
                  <a:srgbClr val="000000"/>
                </a:solidFill>
                <a:latin typeface="Arial"/>
              </a:rPr>
              <a:t>la luarea masurilor de protectie civila</a:t>
            </a:r>
            <a:r>
              <a:rPr b="0" lang="ro-RO" sz="1600" spc="-1" strike="noStrike">
                <a:solidFill>
                  <a:srgbClr val="000000"/>
                </a:solidFill>
                <a:latin typeface="Arial"/>
              </a:rPr>
              <a:t>, precum si a altor atributii stabilite prin lege </a:t>
            </a:r>
            <a:r>
              <a:rPr b="1" i="1" lang="ro-RO" sz="1600" spc="-1" strike="noStrike">
                <a:solidFill>
                  <a:srgbClr val="000000"/>
                </a:solidFill>
                <a:latin typeface="Arial"/>
              </a:rPr>
              <a:t>primarul actioneaza si ca reprezentant al statului in comuna sau in orasul in care a fost ales</a:t>
            </a:r>
            <a:r>
              <a:rPr b="0" lang="ro-RO" sz="1600" spc="-1" strike="noStrike">
                <a:solidFill>
                  <a:srgbClr val="000000"/>
                </a:solidFill>
                <a:latin typeface="Arial"/>
              </a:rPr>
              <a:t>.</a:t>
            </a:r>
            <a:endParaRPr b="0" lang="en-US" sz="1600" spc="-1" strike="noStrike">
              <a:solidFill>
                <a:srgbClr val="000000"/>
              </a:solidFill>
              <a:latin typeface="Verdan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In aceasta calitate primarul poate solicita, inclusiv prin intermediul prefectului, in conditiile legii, concursul sefilor serviciilor publice descentralizate ale ministerelor si ale celorlalte organe centrale din unitatile administrativ-teritoriale, daca sarcinile ce ii revin nu pot fi rezolvate prin aparatul propriu de specialitate.</a:t>
            </a:r>
            <a:endParaRPr b="0" lang="en-US" sz="1600" spc="-1" strike="noStrike">
              <a:solidFill>
                <a:srgbClr val="000000"/>
              </a:solidFill>
              <a:latin typeface="Verdan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In exercitarea atributiilor sale </a:t>
            </a:r>
            <a:r>
              <a:rPr b="1" i="1" lang="ro-RO" sz="1600" spc="-1" strike="noStrike">
                <a:solidFill>
                  <a:srgbClr val="000000"/>
                </a:solidFill>
                <a:latin typeface="Arial"/>
              </a:rPr>
              <a:t>primarul emite dispozitii cu caracter normativ sau individual</a:t>
            </a:r>
            <a:r>
              <a:rPr b="0" lang="ro-RO" sz="1600" spc="-1" strike="noStrike">
                <a:solidFill>
                  <a:srgbClr val="000000"/>
                </a:solidFill>
                <a:latin typeface="Arial"/>
              </a:rPr>
              <a:t>. Acestea devin executorii numai dupa ce sunt aduse la cunostinta publica sau dupa ce au fost comunicate persoanelor interesate, dupa caz.</a:t>
            </a:r>
            <a:endParaRPr b="0" lang="en-US" sz="1600" spc="-1" strike="noStrike">
              <a:solidFill>
                <a:srgbClr val="000000"/>
              </a:solidFill>
              <a:latin typeface="Verdana"/>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12"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autorităţilor administraţiei publice locale</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13"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ăsurile organizatorice şi de pregătire pe linia protecţiei civile au caracter permanent şi se intensifică la instituirea stărilor excepţionale şi la declararea mobilizării sau pe timp de război. </a:t>
            </a:r>
            <a:endParaRPr b="0" lang="en-US" sz="1400" spc="-1" strike="noStrike">
              <a:solidFill>
                <a:srgbClr val="000000"/>
              </a:solidFill>
              <a:latin typeface="Arial"/>
            </a:endParaRPr>
          </a:p>
        </p:txBody>
      </p:sp>
    </p:spTree>
  </p:cSld>
  <p:transition>
    <p:dissolv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mph" presetID="3" presetSubtype="10" repeatCount="indefinite">
                                  <p:stCondLst>
                                    <p:cond delay="0"/>
                                  </p:stCondLst>
                                  <p:iterate type="lt">
                                    <p:tmAbs val="25"/>
                                  </p:iterate>
                                  <p:childTnLst>
                                    <p:animClr clrSpc="rgb">
                                      <p:cBhvr>
                                        <p:cTn id="18" dur="500" fill="hold"/>
                                        <p:tgtEl>
                                          <p:spTgt spid="113"/>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7:37:57Z</dcterms:created>
  <dc:creator>Vrinceanu</dc:creator>
  <dc:description/>
  <dc:language>en-US</dc:language>
  <cp:lastModifiedBy>Vrinceanu</cp:lastModifiedBy>
  <dcterms:modified xsi:type="dcterms:W3CDTF">2007-12-04T10:47:17Z</dcterms:modified>
  <cp:revision>33</cp:revision>
  <dc:subject/>
  <dc:title>OBLIGAŢIILE PRIMARULUI ŞI ALE CONSILIULUI LOCAL ÎN DOMENIUL SITUAŢIILOR DE URGENŢĂ</dc:title>
</cp:coreProperties>
</file>